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notesSlide123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5.pct" ContentType="image/x-pict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49.pct" ContentType="image/x-pict"/>
  <Override PartName="/ppt/media/image14.png" ContentType="image/png"/>
  <Override PartName="/ppt/media/image48.pct" ContentType="image/x-pict"/>
  <Override PartName="/ppt/media/image1.pct" ContentType="image/x-pict"/>
  <Override PartName="/ppt/media/image4.png" ContentType="image/png"/>
  <Override PartName="/ppt/media/image31.pct" ContentType="image/x-pict"/>
  <Override PartName="/ppt/media/image27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4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2.png" ContentType="image/png"/>
  <Override PartName="/ppt/media/image43.png" ContentType="image/png"/>
  <Override PartName="/ppt/media/image12.png" ContentType="image/png"/>
  <Override PartName="/ppt/media/image46.pct" ContentType="image/x-pict"/>
  <Override PartName="/ppt/media/image11.png" ContentType="image/png"/>
  <Override PartName="/ppt/media/image45.jpeg" ContentType="image/jpeg"/>
  <Override PartName="/ppt/media/image41.jpeg" ContentType="image/jpeg"/>
  <Override PartName="/ppt/media/image50.jpeg" ContentType="image/jpeg"/>
  <Override PartName="/ppt/media/image56.png" ContentType="image/png"/>
  <Override PartName="/ppt/media/image13.png" ContentType="image/png"/>
  <Override PartName="/ppt/media/image54.jpeg" ContentType="image/jpeg"/>
  <Override PartName="/ppt/media/image47.pct" ContentType="image/x-pict"/>
  <Override PartName="/ppt/media/image8.png" ContentType="image/png"/>
  <Override PartName="/ppt/media/image3.png" ContentType="image/png"/>
  <Override PartName="/ppt/media/image30.pct" ContentType="image/x-pict"/>
  <Override PartName="/ppt/media/image33.png" ContentType="image/png"/>
  <Override PartName="/ppt/media/image53.jpeg" ContentType="image/jpeg"/>
  <Override PartName="/ppt/media/image7.pct" ContentType="image/x-pict"/>
  <Override PartName="/ppt/media/image37.pct" ContentType="image/x-pict"/>
  <Override PartName="/ppt/media/image9.png" ContentType="image/png"/>
  <Override PartName="/ppt/media/image6.pct" ContentType="image/x-pict"/>
  <Override PartName="/ppt/media/image39.png" ContentType="image/png"/>
  <Override PartName="/ppt/media/image5.png" ContentType="image/png"/>
  <Override PartName="/ppt/media/image52.jpeg" ContentType="image/jpeg"/>
  <Override PartName="/ppt/media/image29.jpeg" ContentType="image/jpeg"/>
  <Override PartName="/ppt/media/image35.jpeg" ContentType="image/jpe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C89F-F222-44D9-8EE5-C3E918B14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 Change all to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y can be tightly interwoven: somatic cell mu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he assay can be interwo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comparison is only possible insofar as we can have representations that are independent of a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Grande"/>
              </a:rPr>
              <a:t>quality: </a:t>
            </a:r>
            <a:r>
              <a:rPr b="0" lang="en-US" sz="700" spc="-1" strike="noStrike">
                <a:solidFill>
                  <a:srgbClr val="000000"/>
                </a:solidFill>
                <a:latin typeface="Lucida Grande"/>
              </a:rPr>
              <a:t>Structure, relative size, pattern, structu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umab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Grande"/>
              </a:rPr>
              <a:t>Qual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stru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relative siz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patter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stru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qual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relative numb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behavioral 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return to the acidity example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tity is not a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S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A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values: nicotine, peanut butter, alcoho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is not an attribute (higher order predicat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don’t exist in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py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ic table is a module structure, built 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ntologies are often built afresh for each new task; commonly introducing not only idiosyncrasies of format or logic, but also simplifications or distortions of their subject-mat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this problem application ontology development  shoud take place always against the background of a formally robust reference ontology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 mech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y languages and data dir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compression and just in time retrieval, ca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e object definitions or mappings between th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n synta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descriptive langu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they commit themselves to conceiving ontology as a science, not as a h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uth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n example of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ther dichotomy (and ani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: ‘Observable’ [drysdale]. Observable introduces an extra layer of indirection and the unneccessary concept of ob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 dependent continuant is an entity too,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vs 4D. spatial regions; spatiotemporal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eria: do all the parts exist at the sam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go-typ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ke example or a real example from 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logy development is inherently collaborative, and so it is important to understand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se studies from GO in the session on use-cases will illustrate both types of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1B6-1C7E-42EA-944A-CBE0AD6E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362-4AC4-41C5-AE19-CFD9D46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71D-FED3-4305-99CE-33D3A445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C2F-0DD4-4725-86F2-AAC80E7E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0C33-43F2-4171-9020-4DD507FE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C6C-D1F0-4FFF-82B8-B0321BBC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FB69-2465-41DC-A6BE-F5475244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FF19-33AD-4DB1-95A1-82573FEF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9F00-4C75-487E-8BA9-09A3A6C5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F621-9528-4AAB-9E47-8F0C36C4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FB82-D4CC-4F94-8CBF-0387758B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83C-2755-4432-9308-67A2CD27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9233-1838-499E-A83D-04697C0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4DF2-D44B-48FC-8213-A6E4154E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D486-B36D-4238-99E4-3406D80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2CDF-46B9-41A9-88F6-7E1DBA53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86B1-2D60-4FE7-A1B0-6E3C2E3E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F84-BF70-45E6-9ACE-DD31BCA4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B6E-CF02-4EEE-B946-46404FF5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C1F-7203-4A37-AF33-7613B29C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EE9-AA5B-4C92-AB47-B21F08B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178-2496-43DE-8DF4-D95A2B1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0A9-4F4F-4A24-B5A3-C83F5BB7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847-C826-4B08-BCDD-75961548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dcb9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A465-7A9E-414F-9BB4-35369F249742}" type="slidenum">
              <a:rPr b="0" lang="en-US" sz="1400" spc="-1" strike="noStrike">
                <a:solidFill>
                  <a:srgbClr val="e9dcb9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425-B123-40DA-AA3E-D7861D168F96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2040" y="356076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ct"/><Relationship Id="rId3" Type="http://schemas.openxmlformats.org/officeDocument/2006/relationships/image" Target="../media/image49.pct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image" Target="../media/image30.pct"/><Relationship Id="rId2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image" Target="../media/image37.pct"/><Relationship Id="rId3" Type="http://schemas.openxmlformats.org/officeDocument/2006/relationships/image" Target="../media/image37.pct"/><Relationship Id="rId4" Type="http://schemas.openxmlformats.org/officeDocument/2006/relationships/image" Target="../media/image37.pct"/><Relationship Id="rId5" Type="http://schemas.openxmlformats.org/officeDocument/2006/relationships/image" Target="../media/image37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Joy of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uzanna Lewi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MI Colloquiu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ril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, 200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009880" y="27000"/>
          <a:ext cx="51292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27000"/>
                    <a:ext cx="51292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009880" y="3706920"/>
          <a:ext cx="5129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9880" y="3706920"/>
                    <a:ext cx="5129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325584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The Challenge of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267840" y="525600"/>
            <a:ext cx="8610840" cy="62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nford:  Tools for ontology alignment, indexing, and management (Cores 1, 4–7: Mark Musen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wrence–Berkeley Labs: Tools to use ontologies for data annotation (Cores 2, 5–7: Suzanna Lewi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yo Clinic:  Tools for access to large controlled terminologies (Core 1: Chris Chut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ictoria: Tools for ontology and data visualization (Cores 1 and 2: Margaret-Anne Stor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versity at Buffalo: Dissemination of best practices for ontology engineering (Core 6: Barry Smith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Driving Biological Project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Trial Bank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UCSF, Ida Si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Flybas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Cambridge, Michael Ashburn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ZFI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Oregon, Monte Westerfie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7832880" y="4546440"/>
            <a:ext cx="691920" cy="8636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7696080" y="2971800"/>
            <a:ext cx="828720" cy="10666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7381800" y="1994040"/>
            <a:ext cx="1143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ase study: Phenotypes, our current work on OBD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"/>
          <p:cNvCxnSpPr>
            <a:stCxn id="122" idx="3"/>
            <a:endCxn id="123" idx="2"/>
          </p:cNvCxnSpPr>
          <p:nvPr/>
        </p:nvCxnSpPr>
        <p:spPr>
          <a:xfrm flipV="1">
            <a:off x="3047760" y="4191120"/>
            <a:ext cx="1639080" cy="10386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4" name=""/>
          <p:cNvCxnSpPr>
            <a:stCxn id="125" idx="2"/>
            <a:endCxn id="123" idx="0"/>
          </p:cNvCxnSpPr>
          <p:nvPr/>
        </p:nvCxnSpPr>
        <p:spPr>
          <a:xfrm>
            <a:off x="1677600" y="762120"/>
            <a:ext cx="3009240" cy="228672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6" name=""/>
          <p:cNvCxnSpPr>
            <a:stCxn id="127" idx="1"/>
            <a:endCxn id="123" idx="2"/>
          </p:cNvCxnSpPr>
          <p:nvPr/>
        </p:nvCxnSpPr>
        <p:spPr>
          <a:xfrm flipH="1" flipV="1">
            <a:off x="4686120" y="4190400"/>
            <a:ext cx="724320" cy="14720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8" name=""/>
          <p:cNvCxnSpPr>
            <a:stCxn id="129" idx="3"/>
            <a:endCxn id="123" idx="1"/>
          </p:cNvCxnSpPr>
          <p:nvPr/>
        </p:nvCxnSpPr>
        <p:spPr>
          <a:xfrm>
            <a:off x="1981080" y="3507840"/>
            <a:ext cx="1524960" cy="111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0" name=""/>
          <p:cNvCxnSpPr>
            <a:stCxn id="131" idx="3"/>
            <a:endCxn id="123" idx="1"/>
          </p:cNvCxnSpPr>
          <p:nvPr/>
        </p:nvCxnSpPr>
        <p:spPr>
          <a:xfrm>
            <a:off x="1916280" y="2457360"/>
            <a:ext cx="1589760" cy="11624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2" name=""/>
          <p:cNvCxnSpPr>
            <a:endCxn id="123" idx="1"/>
          </p:cNvCxnSpPr>
          <p:nvPr/>
        </p:nvCxnSpPr>
        <p:spPr>
          <a:xfrm>
            <a:off x="1676520" y="1760400"/>
            <a:ext cx="1829520" cy="18597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3" name=""/>
          <p:cNvCxnSpPr>
            <a:stCxn id="134" idx="1"/>
            <a:endCxn id="123" idx="0"/>
          </p:cNvCxnSpPr>
          <p:nvPr/>
        </p:nvCxnSpPr>
        <p:spPr>
          <a:xfrm flipH="1">
            <a:off x="4685760" y="2173320"/>
            <a:ext cx="2400840" cy="87552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5" name=""/>
          <p:cNvCxnSpPr>
            <a:stCxn id="136" idx="2"/>
            <a:endCxn id="123" idx="0"/>
          </p:cNvCxnSpPr>
          <p:nvPr/>
        </p:nvCxnSpPr>
        <p:spPr>
          <a:xfrm flipH="1">
            <a:off x="4686120" y="1488600"/>
            <a:ext cx="2653200" cy="155988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sp>
        <p:nvSpPr>
          <p:cNvPr id="137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755720" y="4800600"/>
            <a:ext cx="1292400" cy="857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6446880" y="106668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457200" y="320040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5867280" y="4229280"/>
            <a:ext cx="879480" cy="1028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4343400" y="167652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2286000" y="3429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76320" y="411480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152280" y="589284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  <p:cxnSp>
        <p:nvCxnSpPr>
          <p:cNvPr id="159" name=""/>
          <p:cNvCxnSpPr>
            <a:stCxn id="141" idx="2"/>
            <a:endCxn id="158" idx="0"/>
          </p:cNvCxnSpPr>
          <p:nvPr/>
        </p:nvCxnSpPr>
        <p:spPr>
          <a:xfrm>
            <a:off x="3714480" y="1371240"/>
            <a:ext cx="972360" cy="16772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0" name=""/>
          <p:cNvCxnSpPr>
            <a:stCxn id="153" idx="2"/>
            <a:endCxn id="158" idx="0"/>
          </p:cNvCxnSpPr>
          <p:nvPr/>
        </p:nvCxnSpPr>
        <p:spPr>
          <a:xfrm flipH="1">
            <a:off x="4686120" y="2339640"/>
            <a:ext cx="800640" cy="7088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1" name=""/>
          <p:cNvCxnSpPr>
            <a:stCxn id="143" idx="1"/>
            <a:endCxn id="158" idx="3"/>
          </p:cNvCxnSpPr>
          <p:nvPr/>
        </p:nvCxnSpPr>
        <p:spPr>
          <a:xfrm flipH="1">
            <a:off x="5866920" y="3262320"/>
            <a:ext cx="991440" cy="3578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2" name=""/>
          <p:cNvCxnSpPr>
            <a:stCxn id="140" idx="1"/>
            <a:endCxn id="158" idx="3"/>
          </p:cNvCxnSpPr>
          <p:nvPr/>
        </p:nvCxnSpPr>
        <p:spPr>
          <a:xfrm flipH="1" flipV="1">
            <a:off x="5866560" y="3619080"/>
            <a:ext cx="1296360" cy="768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3" name=""/>
          <p:cNvCxnSpPr>
            <a:stCxn id="152" idx="1"/>
            <a:endCxn id="158" idx="2"/>
          </p:cNvCxnSpPr>
          <p:nvPr/>
        </p:nvCxnSpPr>
        <p:spPr>
          <a:xfrm flipH="1" flipV="1">
            <a:off x="4686120" y="4190760"/>
            <a:ext cx="1181520" cy="552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4" name=""/>
          <p:cNvCxnSpPr>
            <a:stCxn id="150" idx="0"/>
            <a:endCxn id="158" idx="2"/>
          </p:cNvCxnSpPr>
          <p:nvPr/>
        </p:nvCxnSpPr>
        <p:spPr>
          <a:xfrm flipV="1">
            <a:off x="4304880" y="4190400"/>
            <a:ext cx="381960" cy="610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5" name=""/>
          <p:cNvCxnSpPr>
            <a:stCxn id="157" idx="0"/>
            <a:endCxn id="142" idx="1"/>
          </p:cNvCxnSpPr>
          <p:nvPr/>
        </p:nvCxnSpPr>
        <p:spPr>
          <a:xfrm flipV="1">
            <a:off x="762120" y="5228640"/>
            <a:ext cx="993960" cy="664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6" name=""/>
          <p:cNvCxnSpPr>
            <a:stCxn id="156" idx="2"/>
            <a:endCxn id="142" idx="1"/>
          </p:cNvCxnSpPr>
          <p:nvPr/>
        </p:nvCxnSpPr>
        <p:spPr>
          <a:xfrm>
            <a:off x="1066680" y="4611600"/>
            <a:ext cx="689760" cy="61848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7" name=""/>
          <p:cNvCxnSpPr>
            <a:stCxn id="155" idx="3"/>
            <a:endCxn id="158" idx="1"/>
          </p:cNvCxnSpPr>
          <p:nvPr/>
        </p:nvCxnSpPr>
        <p:spPr>
          <a:xfrm flipV="1">
            <a:off x="3200040" y="3618720"/>
            <a:ext cx="305640" cy="381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8" name=""/>
          <p:cNvCxnSpPr>
            <a:stCxn id="149" idx="2"/>
          </p:cNvCxnSpPr>
          <p:nvPr/>
        </p:nvCxnSpPr>
        <p:spPr>
          <a:xfrm>
            <a:off x="3085920" y="2361960"/>
            <a:ext cx="1486440" cy="610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Century Gothic"/>
                <a:ea typeface="ＭＳ Ｐゴシック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Century Gothic"/>
                <a:ea typeface="ＭＳ Ｐゴシック"/>
              </a:rPr>
              <a:t> make sense of biomedical data</a:t>
            </a:r>
            <a:endParaRPr b="0" lang="en-US" sz="28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686b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entury Gothic"/>
              </a:rPr>
              <a:t>PA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otelo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opla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ertroph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686b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entury Gothic"/>
              </a:rPr>
              <a:t>ZF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id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17800" y="2089080"/>
            <a:ext cx="43869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atomical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 &amp; tissue ontolo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velopmental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log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495320" y="315756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+     P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phenotype and trait ontolo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yndrome =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+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+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holoprosenceph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35440" y="60156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 hol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s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657960" y="6015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h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21920" y="6015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oep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76320" y="990720"/>
          <a:ext cx="8915040" cy="4800240"/>
        </p:xfrm>
        <a:graphic>
          <a:graphicData uri="http://schemas.openxmlformats.org/drawingml/2006/table">
            <a:tbl>
              <a:tblPr/>
              <a:tblGrid>
                <a:gridCol w="938160"/>
                <a:gridCol w="782280"/>
                <a:gridCol w="938520"/>
                <a:gridCol w="959400"/>
                <a:gridCol w="917640"/>
                <a:gridCol w="781560"/>
                <a:gridCol w="469440"/>
                <a:gridCol w="625680"/>
                <a:gridCol w="2502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r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GLI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H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h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h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0" name=""/>
          <p:cNvCxnSpPr>
            <a:stCxn id="664" idx="4"/>
            <a:endCxn id="665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1" name=""/>
          <p:cNvCxnSpPr>
            <a:stCxn id="664" idx="1"/>
            <a:endCxn id="663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2" name=""/>
          <p:cNvCxnSpPr>
            <a:stCxn id="663" idx="4"/>
            <a:endCxn id="665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Phenotype as an observa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75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809e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16720" y="32004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809e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5" name=""/>
          <p:cNvCxnSpPr>
            <a:stCxn id="684" idx="0"/>
            <a:endCxn id="678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84" idx="0"/>
            <a:endCxn id="676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84" idx="0"/>
            <a:endCxn id="677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84" idx="0"/>
            <a:endCxn id="679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4" idx="0"/>
            <a:endCxn id="682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120" y="60912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view of proposed EAV EQ mode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phenotype is described using an Entity-Quality dou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ntities are drawn from various OBO ontologies—cell, anatomies, GO, 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Qualities are drawn from one ontology—PAT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838080"/>
            <a:ext cx="1218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 Portion of the OBO Librar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paration of concer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t phenotype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say, measurement syste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6" name=""/>
          <p:cNvSpPr/>
          <p:nvPr/>
        </p:nvSpPr>
        <p:spPr>
          <a:xfrm>
            <a:off x="1053360" y="4876920"/>
            <a:ext cx="7038720" cy="13629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henotype = Entity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30400" y="4309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2003 Pilot stud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ial of EAV model on small collection of genotyp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lyB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FI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s were non-orthologou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ew curations - in progres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thologous genes with clinical relevan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the same data model and exchange format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xample data record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523880" y="2438280"/>
          <a:ext cx="6019560" cy="2971800"/>
        </p:xfrm>
        <a:graphic>
          <a:graphicData uri="http://schemas.openxmlformats.org/drawingml/2006/table">
            <a:tbl>
              <a:tblPr/>
              <a:tblGrid>
                <a:gridCol w="1958760"/>
                <a:gridCol w="1622520"/>
                <a:gridCol w="243828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6784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ZFIN schema extension: stag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228600" y="2438280"/>
          <a:ext cx="8610480" cy="319248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1295280"/>
                <a:gridCol w="2210040"/>
              </a:tblGrid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Pec-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Pec-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Long-p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Larval:Protruding-mou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-88200" y="2322360"/>
            <a:ext cx="9324720" cy="22280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ge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Entity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g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AnatomicalStage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96760" y="6070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* means zero or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ag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nadic and relational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nadic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inheres in a single ent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lational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inheres in two or more ent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nsitivity of an organism to a kind of drug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nsitivity of an eye to a wavelength of ligh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n turn relational qualities into cross-product monadic qual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.g. sensitivityToRedLigh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tter to use relational qualiti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voids redundancy with existing ontologi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-88200" y="2470320"/>
            <a:ext cx="9324720" cy="17859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Stage* Entity Quality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it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Version2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corporating relational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16" name=""/>
          <p:cNvSpPr/>
          <p:nvPr/>
        </p:nvSpPr>
        <p:spPr>
          <a:xfrm>
            <a:off x="61200" y="50292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 data rec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8200" y="5538960"/>
            <a:ext cx="8610840" cy="4597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“organism” sensitiveTo “puromycin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915840" y="167652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easurable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2320" y="1515960"/>
            <a:ext cx="8381880" cy="51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qualities are inexact and implicitly relative to a wild-type or normal qua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latively short, relatively long, relatively reduc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sier than explicitly representin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tail length shorter-than ‘mouse’ wild-type tail lengt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qualities are determinab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a measure functi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unit, value, {time}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s tail has length 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easure(L, cm) = 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Keep measurements separate from (but linked to) quality ontolog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15840" y="133524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15280" y="2494080"/>
            <a:ext cx="8410320" cy="187200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Genotyp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Environmen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Ass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henotype = Stage* Entity Quality Entity*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easurement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asurement = Unit Value (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PATOVersion2Cla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12000" y="51055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 data rec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26200" y="5664240"/>
            <a:ext cx="7495920" cy="3988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henotype = “gut” “acidic” Measurement = “pH” 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864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corporating measureme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915840" y="19875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-572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Methodology of Annota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320480"/>
            <a:ext cx="7772400" cy="71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ientific curators use experimental observations reported in the biomedical literature to link gene products with GO terms in annotation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gene annotations taken together yield a slowly growing computer-interpretable map of biological reality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rocess of annotating literature also leads to improvements and extensions of the ontology itself, which institutes a virtuous cycle of improvement in the quality and  reach of future annotations and of future versions of the ontolog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0520" y="7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tivation: to capture biological re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ferences and decisions we make are based upon what we know of the biological real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ntology is a computable representation of this underlying biological real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ables a computer to reason over the data in (some of) the ways that we 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en we annotate the record of an experimen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use terms representing types to capture what we learn about the instan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experiment as a whole (a proces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instances experimented upo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instances are typica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are representatives of a typ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299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thing of beauty is a joy forev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acknowledgement and thanks to: Mark Musen, Barry Smith, Sima Misra, Chris Mungall, Daniel Rubin, and David Hi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ation of the schema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should EAV data records be interpreted by a computer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instanc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 EAV schema just to improve database searching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n it be used for meaningful cross-species comparison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876320"/>
          <a:ext cx="8229600" cy="3990960"/>
        </p:xfrm>
        <a:graphic>
          <a:graphicData uri="http://schemas.openxmlformats.org/drawingml/2006/table">
            <a:tbl>
              <a:tblPr/>
              <a:tblGrid>
                <a:gridCol w="1905120"/>
                <a:gridCol w="358128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7" name=""/>
          <p:cNvSpPr/>
          <p:nvPr/>
        </p:nvSpPr>
        <p:spPr>
          <a:xfrm>
            <a:off x="5476320" y="620712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03 trial data: FB &amp; ZF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3004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Ent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Ent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 practical term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 ID from one of the following ontolog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O CC, BP, and MF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cies-specific anatomical ontolog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BO C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 a cross-produc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.g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acidification GO:0045851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ich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as_locationOBOREL midgut FBbt0000538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[example from FBal0062296: Acidification in the midgut of homozygous larvae is often less than in wild-type larvae]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what does it mean in the context of an annotatio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685800" y="12891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niversals and particula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444680"/>
            <a:ext cx="7772400" cy="67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ntology consist of universals (class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uitfly, wing, flig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xperimental data generally concerns particulars (instances) that instantiate universal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particular wing of this particular fruitf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particular fruitfly  participating in this particular flight from here to the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 annotation we often use a class ID as a proxy for an (unnamed) instance (or collection of instanc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t is important to always keep this distinction in min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419040" y="2057400"/>
          <a:ext cx="8305920" cy="4419720"/>
        </p:xfrm>
        <a:graphic>
          <a:graphicData uri="http://schemas.openxmlformats.org/drawingml/2006/table">
            <a:tbl>
              <a:tblPr/>
              <a:tblGrid>
                <a:gridCol w="1905120"/>
                <a:gridCol w="2286000"/>
                <a:gridCol w="2209680"/>
                <a:gridCol w="190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behavioral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6187680" y="652788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03 trial data: FB &amp; ZF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15840" y="1593720"/>
            <a:ext cx="7313760" cy="8280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7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Qual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reat as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Qual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dependent ent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quality must have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independent entity(s)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as bear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inheres_in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the bear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ball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tructur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leng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tai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ra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synaptic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transmission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tween these two neur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ttribute universals vs Attribute particula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In an EAV annotation, a PATO class ID typically serves  as a proxy for an unnamed attribute instan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Universals (classes) must always be defined in terms of their instanc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5867280"/>
            <a:ext cx="7772400" cy="8384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Formal Theory of Substances, Qualities,  and Univer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bian NEUHAUS Pierre GRENON Barry SM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is the attribute slot used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52280" y="2057400"/>
          <a:ext cx="8839440" cy="4154400"/>
        </p:xfrm>
        <a:graphic>
          <a:graphicData uri="http://schemas.openxmlformats.org/drawingml/2006/table">
            <a:tbl>
              <a:tblPr/>
              <a:tblGrid>
                <a:gridCol w="1752840"/>
                <a:gridCol w="2286000"/>
                <a:gridCol w="2819160"/>
                <a:gridCol w="198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behavioral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8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What is an ontolog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-88200" y="2322360"/>
            <a:ext cx="9324720" cy="22280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ge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Entity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g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AnatomicalStage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ttribut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760" y="6070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* means zero or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urrent Mode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posite phenotype class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mmalian phenotype has composite phenotype class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.g. “reduced B cell number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pose at annotation time or ontology curation tim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lse dichotom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re 2 will help map between composite class based annotation and EAV anno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notations are data record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ypically use class ID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mplicitl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refer to insta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do we map an annotation to instance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mportant for using annotations computation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138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1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an EA (or EAV) annotation mea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enotype=“FBal00123” E=“brain” A=“fused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esumed implied meanin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is organis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has_part x, wher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instance_of “brain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has_quality “fused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organism has a fused brain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rious built-in assump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915840" y="152388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II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71360"/>
            <a:ext cx="7772400" cy="46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=“FBal00123” E=“wing” A=“absent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ing same mapping as annotation I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ly98 has_part x, whe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instance_of “wing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has_quality “absent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fly has a wing which is not ther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T(this organism has_part x, where x instance_of “wing”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915840" y="163980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-41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II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5560" y="1731960"/>
            <a:ext cx="8915400" cy="44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this mea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enotype=“FBal00123” E=“wing” A=“absent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ing same mapping as annotation I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is organism has_part x, wher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instance_of “wing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has_quality “absent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fly has a wing which is not ther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at we really inten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organism has_quality “wingless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ingless” = the property of having count(has_part “wing”)=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915840" y="135252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7240" y="204480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re our computational representations intended to capture reality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473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oes this matte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226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we simply use the colloquial expression “absent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 the consequenc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asic search will be 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.g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“find all wing phenotypes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gical reasoners will compute incorrect resul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mputers will not be able to reason correct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must explicitly provide specific rules for certain attributes such as “absent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915840" y="171144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87240" y="-52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Osaka"/>
              </a:rPr>
              <a:t>Interpreting annotations (II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4960" y="169704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E=“digit” A=“supernumer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using same interpretation as annotation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x,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instance_of “digi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has_quality “supernumer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  <a:ea typeface="Osaka"/>
              </a:rPr>
              <a:t>this organism has a particular finger which is supernumery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Osaka"/>
              </a:rPr>
              <a:t>this person has_quality “supernumery finge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supernumery finger”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e property of havin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 count(has_part “digit”) &gt; wild-typ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915840" y="133020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 (as a branch of philosophy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cience of what exists in every area of rea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classification of entities: what kinds of things exi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relations between these ent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es a scientific field's vocabulary and the canonical formulations of its theori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eks to solve problems which arise in these domain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687240" y="17316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Osaka"/>
              </a:rPr>
              <a:t>Interpreting annotations (IV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7240" y="1363680"/>
            <a:ext cx="77724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Osaka"/>
              </a:rPr>
              <a:t>Gt=“mp001” E=“brown fat cell” A=“increased quanti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using same mapping as annotation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x,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instance_of “brown fat cel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has_quality “increased quantit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  <a:ea typeface="Osaka"/>
              </a:rPr>
              <a:t>this organism has a particular brown fat cell which is increased in qua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population_of(“brown fat cell”) which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has_qualit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 increased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915840" y="110808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ther use cas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ermatocyte devoid of as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meotic transformatio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creased distance between wing vei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me 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 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915840" y="154296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lternate perspectiv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cess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vs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st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gulatory process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cidification of midgut has_quality reduced rat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idgut has_quality low acidit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velopment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vs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behavi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ing development has_quality abnorma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light has_quality intermitten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ularity (scal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emical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molecular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cell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tissue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anatomical par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915840" y="154296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8120" y="320040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960" y="4572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ye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97560" y="413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15760" y="5334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1400" y="4130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2600" y="3200400"/>
            <a:ext cx="2895480" cy="2314440"/>
          </a:xfrm>
          <a:prstGeom prst="rect">
            <a:avLst/>
          </a:prstGeom>
          <a:ln w="0">
            <a:noFill/>
          </a:ln>
        </p:spPr>
      </p:pic>
      <p:cxnSp>
        <p:nvCxnSpPr>
          <p:cNvPr id="190" name=""/>
          <p:cNvCxnSpPr>
            <a:stCxn id="183" idx="0"/>
            <a:endCxn id="180" idx="2"/>
          </p:cNvCxnSpPr>
          <p:nvPr/>
        </p:nvCxnSpPr>
        <p:spPr>
          <a:xfrm flipV="1">
            <a:off x="6248160" y="5181120"/>
            <a:ext cx="1080" cy="9151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0" idx="3"/>
            <a:endCxn id="184" idx="2"/>
          </p:cNvCxnSpPr>
          <p:nvPr/>
        </p:nvCxnSpPr>
        <p:spPr>
          <a:xfrm flipV="1">
            <a:off x="6934320" y="3924000"/>
            <a:ext cx="496080" cy="99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0" idx="1"/>
            <a:endCxn id="185" idx="2"/>
          </p:cNvCxnSpPr>
          <p:nvPr/>
        </p:nvCxnSpPr>
        <p:spPr>
          <a:xfrm flipH="1" flipV="1">
            <a:off x="5067000" y="3924000"/>
            <a:ext cx="496080" cy="9914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 biological ontology is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ntity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ything which exists, including things and processes, functions and qualities, beliefs and actions, software and ima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presentation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An image, idea, map, picture, name, description ... which refers to, or is intended to refer to, some entity or entities in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his ‘or is intended to refer to’ should always be assum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ies represent </a:t>
            </a:r>
            <a:r>
              <a:rPr b="1" lang="en-US" sz="4000" spc="-1" strike="noStrike">
                <a:solidFill>
                  <a:srgbClr val="ff8000"/>
                </a:solidFill>
                <a:latin typeface="Century Gothic"/>
              </a:rPr>
              <a:t>types</a:t>
            </a: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 in realit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52480" y="472428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2819520"/>
            <a:ext cx="4191120" cy="32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52920" y="6172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4760" y="6248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80"/>
                </a:solidFill>
                <a:latin typeface="Century Gothic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c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make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is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ow to create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gic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chnic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ganization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se study: Phenotypes, our current work on OB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154480" y="30542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cientific data represent </a:t>
            </a:r>
            <a:r>
              <a:rPr b="1" lang="en-US" sz="4400" spc="-1" strike="noStrike">
                <a:solidFill>
                  <a:srgbClr val="ff0080"/>
                </a:solidFill>
                <a:latin typeface="Century Gothic"/>
              </a:rPr>
              <a:t>instances</a:t>
            </a: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 in re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738680" y="1952640"/>
          <a:ext cx="3243240" cy="14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1952640"/>
                    <a:ext cx="32432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179280" y="3605040"/>
            <a:ext cx="4795920" cy="3252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1162080" y="2057400"/>
            <a:ext cx="241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Two kinds of representational artifact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atabases, inventories, images: represent what is particular in reality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1" lang="en-US" sz="3200" spc="-1" strike="noStrike">
                <a:solidFill>
                  <a:srgbClr val="ff0080"/>
                </a:solidFill>
                <a:latin typeface="Century Gothic"/>
              </a:rPr>
              <a:t>instances</a:t>
            </a:r>
            <a:br>
              <a:rPr sz="3200"/>
            </a:br>
            <a:r>
              <a:rPr b="1" lang="en-US" sz="3200" spc="-1" strike="noStrike">
                <a:solidFill>
                  <a:srgbClr val="ff008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ntologies, terminologies, catalogs: represent what is general in reality (exists in multiple instances)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1" lang="en-US" sz="3200" spc="-1" strike="noStrike">
                <a:solidFill>
                  <a:srgbClr val="ff8000"/>
                </a:solidFill>
                <a:latin typeface="Century Gothic"/>
              </a:rPr>
              <a:t>types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(universals, kind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5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ies are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not</a:t>
            </a: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 for representing concepts in people’s head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52480" y="472428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52920" y="6172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01080" y="2286000"/>
            <a:ext cx="1247400" cy="1905120"/>
            <a:chOff x="901080" y="2286000"/>
            <a:chExt cx="1247400" cy="1905120"/>
          </a:xfrm>
        </p:grpSpPr>
        <p:sp>
          <p:nvSpPr>
            <p:cNvPr id="220" name=""/>
            <p:cNvSpPr/>
            <p:nvPr/>
          </p:nvSpPr>
          <p:spPr>
            <a:xfrm>
              <a:off x="914400" y="3048120"/>
              <a:ext cx="1219320" cy="1143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01080" y="22860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80"/>
                  </a:solidFill>
                  <a:latin typeface="Century Gothic"/>
                </a:rPr>
                <a:t>rea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914400" y="3048120"/>
            <a:ext cx="121932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720" y="34560"/>
            <a:ext cx="883908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The researcher has a </a:t>
            </a:r>
            <a:r>
              <a:rPr b="0" lang="en-US" sz="3600" spc="-1" strike="noStrike">
                <a:solidFill>
                  <a:srgbClr val="66ffff"/>
                </a:solidFill>
                <a:latin typeface="Century Gothic"/>
              </a:rPr>
              <a:t>cognitive</a:t>
            </a: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66ffff"/>
                </a:solidFill>
                <a:latin typeface="Century Gothic"/>
              </a:rPr>
              <a:t>representation</a:t>
            </a: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 of what is general, based on his knowledge of the science</a:t>
            </a:r>
            <a:endParaRPr b="0" lang="en-US" sz="3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478800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82720" y="3051000"/>
            <a:ext cx="1218960" cy="1143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52920" y="6124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057400"/>
            <a:ext cx="207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Century Gothic"/>
              </a:rPr>
              <a:t>Cognitive re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3886200"/>
            <a:ext cx="38124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9" idx="4"/>
            <a:endCxn id="231" idx="2"/>
          </p:cNvCxnSpPr>
          <p:nvPr/>
        </p:nvCxnSpPr>
        <p:spPr>
          <a:xfrm flipV="1">
            <a:off x="1447920" y="3390120"/>
            <a:ext cx="838800" cy="76284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687960" y="43419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siam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56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3048120"/>
            <a:ext cx="38088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1" idx="4"/>
            <a:endCxn id="235" idx="2"/>
          </p:cNvCxnSpPr>
          <p:nvPr/>
        </p:nvCxnSpPr>
        <p:spPr>
          <a:xfrm flipV="1">
            <a:off x="2666520" y="2628360"/>
            <a:ext cx="762840" cy="68652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2209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8" idx="4"/>
            <a:endCxn id="239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240" name=""/>
          <p:cNvCxnSpPr>
            <a:stCxn id="241" idx="4"/>
            <a:endCxn id="238" idx="2"/>
          </p:cNvCxnSpPr>
          <p:nvPr/>
        </p:nvCxnSpPr>
        <p:spPr>
          <a:xfrm flipV="1">
            <a:off x="5867280" y="572760"/>
            <a:ext cx="991440" cy="8388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5107680" y="15238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114444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15228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7" idx="0"/>
            <a:endCxn id="244" idx="1"/>
          </p:cNvCxnSpPr>
          <p:nvPr/>
        </p:nvCxnSpPr>
        <p:spPr>
          <a:xfrm>
            <a:off x="4788000" y="2171520"/>
            <a:ext cx="1651680" cy="14864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248" name=""/>
          <p:cNvCxnSpPr>
            <a:stCxn id="239" idx="4"/>
            <a:endCxn id="245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8000"/>
                </a:solidFill>
                <a:latin typeface="Century Gothic"/>
              </a:rPr>
              <a:t>typ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1754280"/>
            <a:ext cx="381240" cy="4888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50" idx="4"/>
          </p:cNvCxnSpPr>
          <p:nvPr/>
        </p:nvCxnSpPr>
        <p:spPr>
          <a:xfrm flipV="1">
            <a:off x="4876560" y="1410840"/>
            <a:ext cx="610200" cy="58824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249440" y="2171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endCxn id="250" idx="2"/>
          </p:cNvCxnSpPr>
          <p:nvPr/>
        </p:nvCxnSpPr>
        <p:spPr>
          <a:xfrm flipV="1">
            <a:off x="3809520" y="1998000"/>
            <a:ext cx="686520" cy="631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0920" y="5403960"/>
            <a:ext cx="275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80"/>
                </a:solidFill>
                <a:latin typeface="Arial"/>
              </a:rPr>
              <a:t>in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733920" y="54100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791320" y="54388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724280" y="5410080"/>
            <a:ext cx="838440" cy="80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8077320" y="54100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934320" y="5438880"/>
            <a:ext cx="838080" cy="809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383800">
            <a:off x="5984280" y="2249280"/>
            <a:ext cx="912960" cy="5100840"/>
          </a:xfrm>
          <a:custGeom>
            <a:avLst/>
            <a:gdLst>
              <a:gd name="textAreaLeft" fmla="*/ 583200 w 912960"/>
              <a:gd name="textAreaRight" fmla="*/ 913320 w 912960"/>
              <a:gd name="textAreaTop" fmla="*/ 132840 h 5100840"/>
              <a:gd name="textAreaBottom" fmla="*/ 496800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686b5d">
              <a:alpha val="5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fr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An ontology is like a scientific text;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it is a representation of types in reality</a:t>
            </a:r>
            <a:endParaRPr b="0" lang="en-US" sz="3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990720" y="4788000"/>
            <a:ext cx="3114720" cy="2345400"/>
            <a:chOff x="990720" y="4788000"/>
            <a:chExt cx="3114720" cy="2345400"/>
          </a:xfrm>
        </p:grpSpPr>
        <p:sp>
          <p:nvSpPr>
            <p:cNvPr id="266" name=""/>
            <p:cNvSpPr/>
            <p:nvPr/>
          </p:nvSpPr>
          <p:spPr>
            <a:xfrm>
              <a:off x="1747800" y="4788000"/>
              <a:ext cx="1600200" cy="6858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6124680"/>
              <a:ext cx="311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000"/>
                  </a:solidFill>
                  <a:latin typeface="Century Gothic"/>
                </a:rPr>
                <a:t>Ontology = a representation of typ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7200" y="2057400"/>
            <a:ext cx="2070000" cy="2136600"/>
            <a:chOff x="457200" y="2057400"/>
            <a:chExt cx="2070000" cy="2136600"/>
          </a:xfrm>
        </p:grpSpPr>
        <p:sp>
          <p:nvSpPr>
            <p:cNvPr id="269" name=""/>
            <p:cNvSpPr/>
            <p:nvPr/>
          </p:nvSpPr>
          <p:spPr>
            <a:xfrm>
              <a:off x="882720" y="3051000"/>
              <a:ext cx="1218960" cy="1143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2057400"/>
              <a:ext cx="207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ff"/>
                  </a:solidFill>
                  <a:latin typeface="Century Gothic"/>
                </a:rPr>
                <a:t>Cognitive represent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123720" y="2819520"/>
            <a:ext cx="5639400" cy="3827880"/>
            <a:chOff x="3123720" y="2819520"/>
            <a:chExt cx="5639400" cy="3827880"/>
          </a:xfrm>
        </p:grpSpPr>
        <p:sp>
          <p:nvSpPr>
            <p:cNvPr id="272" name=""/>
            <p:cNvSpPr/>
            <p:nvPr/>
          </p:nvSpPr>
          <p:spPr>
            <a:xfrm>
              <a:off x="4572000" y="2819520"/>
              <a:ext cx="4191120" cy="3276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44760" y="6248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80"/>
                  </a:solidFill>
                  <a:latin typeface="Century Gothic"/>
                </a:rPr>
                <a:t>rea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123720" y="4419720"/>
              <a:ext cx="1752840" cy="609480"/>
            </a:xfrm>
            <a:prstGeom prst="line">
              <a:avLst/>
            </a:prstGeom>
            <a:ln w="12708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tomic representational unit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rms, icons, bar codes, alphanumeric identifiers ... which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31960" indent="-415800">
              <a:spcBef>
                <a:spcPts val="601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fer, or are intended to refer, to entities in reality, an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31960" indent="-415800">
              <a:spcBef>
                <a:spcPts val="601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re not built out of further sub-represent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85280" indent="-4852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presentational units are t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atom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in the domain of represen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dular representational unit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presentation which is built out of other representational units, which together form a structure that mirrors a corresponding structure in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35600" cy="5675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686b5d"/>
                </a:solidFill>
                <a:latin typeface="Century Gothic"/>
              </a:rPr>
              <a:t>Periodic Table</a:t>
            </a:r>
            <a:endParaRPr b="0" lang="en-US" sz="9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2" name=""/>
          <p:cNvSpPr/>
          <p:nvPr/>
        </p:nvSpPr>
        <p:spPr>
          <a:xfrm>
            <a:off x="268488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cb9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Century Gothic"/>
              </a:rPr>
              <a:t>Ontology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A modular, representational artifact whose representational units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intended to represe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59320" indent="-42948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ypes in rea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59320" indent="-42948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relations between these types which are true universally (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.e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for all instanc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7520" indent="-357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ung is_a anatomical structu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17520" indent="-357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be of lung part_of lu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Why make an ontology?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motivatio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create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logic and scien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5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 computer science, there is an information handling problem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t groups of data-gatherers develop their own idiosyncratic terms in which they represent information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put this information together, methods must be found to resolve terminological and conceptual incompatibili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gain, and again, and again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entury Gothic"/>
              </a:rPr>
              <a:t>The Reality</a:t>
            </a:r>
            <a:endParaRPr b="0" lang="en-US" sz="6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not assume that data integration can be brought about by somehow ‘mapping’ incompatible, low quality ontologies built for different purpo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wo flavors of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plication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pplicatio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 </a:t>
            </a:r>
            <a:r>
              <a:rPr b="1" lang="en-US" sz="3200" spc="-1" strike="noStrike">
                <a:solidFill>
                  <a:srgbClr val="66ffff"/>
                </a:solidFill>
                <a:latin typeface="Century Gothic"/>
              </a:rPr>
              <a:t>applicatio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ontology is comparable to an engineering artifact such as a software tool. It is constructed for specific practical purpose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ference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3200" spc="-1" strike="noStrike">
                <a:solidFill>
                  <a:srgbClr val="66ffff"/>
                </a:solidFill>
                <a:latin typeface="Century Gothic"/>
              </a:rPr>
              <a:t>referenc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ontology is analogous to a scientific theory; it seeks to optimize representational adequacy to its subject matt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ssump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re are best practices in ontology development which should be followed to create stable high-quality ontolog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ared high quality ontologies foster cross-disciplinary and cross-domain re-use of data, and create larger commun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0" y="-2109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y do we need rules/standards for good ontology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3720" y="1685520"/>
            <a:ext cx="8839080" cy="64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ies must be intelligible both to humans (for annotation) and to machines (for reasoning and error-checkin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ntuitive rules lead to errors in classific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mple, intuitive rules facilitate training of curators and annotato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on rules allow alignment with other ontologies (and thus cross-domain exploitation of data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gically coherent rules enhance harvesting of content through automatic reasoning syste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0" y="677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ies built according to common logically coherent rul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50020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ill make entry easier and yield a safer growth pa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 can start small, annotating your data with initial fragments of a well-founded ontology, confident that the results will still be usable when the ontology grows larger and rich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BO Foundr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7400" y="2160360"/>
            <a:ext cx="899172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subset of OBO ontologies whose developers agree in advance to accept a common set of principles designed to assure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5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lligibility to biologist curators, annotators, us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mal robustnes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bi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atibi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roperabil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upport for logic-based reaso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"/>
          <p:cNvSpPr/>
          <p:nvPr/>
        </p:nvSpPr>
        <p:spPr>
          <a:xfrm>
            <a:off x="1854000" y="51804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Problem(s) with data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accessibility of widely distributed dat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ver abundance of informatio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eed and performan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erpreting the data syntactic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erpreting the data semantic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4600" y="1968480"/>
            <a:ext cx="80773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nd available to be used by all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developers of the ontology agree in advance to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ollabora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with developers of other OBO Foundry ontology where domains overlap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in, or can be instantiated in, a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ommon formal languag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possesses a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unique identifier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pace within OB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provider has procedures for identifying distinct successiv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versi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/>
          <p:nvPr/>
        </p:nvSpPr>
        <p:spPr>
          <a:xfrm>
            <a:off x="1873080" y="47340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687240" y="196848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has a clearly specified and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learly delineated cont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nclude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textual definition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 all ter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well-documente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has a plurality of independent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user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uses relations which are unambiguously defined following the pattern of definitions laid down in th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OBO Relation Ontology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/>
          <p:nvPr/>
        </p:nvSpPr>
        <p:spPr>
          <a:xfrm>
            <a:off x="1873080" y="47340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rthogon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ntology groups who choose to be part of the OBO Foundry thereby </a:t>
            </a:r>
            <a:r>
              <a:rPr b="0" lang="en-US" sz="3200" spc="-1" strike="noStrike">
                <a:solidFill>
                  <a:srgbClr val="80ff00"/>
                </a:solidFill>
                <a:latin typeface="Century Gothic"/>
              </a:rPr>
              <a:t>commit themselves to collaborating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o resolve disagreements which arise where their respective domains overla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"/>
          <p:cNvSpPr/>
          <p:nvPr/>
        </p:nvSpPr>
        <p:spPr>
          <a:xfrm>
            <a:off x="2181600" y="518040"/>
            <a:ext cx="479484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Orthog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ccess of ontology alignment demands that ontological relations (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, part_of, ..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) have the same meanings in the different ontologies to be aligned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e “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Relations in Biomedical Ontologi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”, Genome Biology May 2005, Barry Smith , Werner Ceusters, Bert Klagges, Jacob Köhler, Anand Kumar, Jane Lomax, Chris Mungall, Fabian Neuhaus, Alan L Rector,  and Cornelius Ros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518040"/>
            <a:ext cx="74707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agreed on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3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Three fundamental dichotomie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2760" y="1898280"/>
            <a:ext cx="800244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ontinuants vs. occurrent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pendent vs. independent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ypes vs. instanc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"/>
          <p:cNvSpPr/>
          <p:nvPr/>
        </p:nvSpPr>
        <p:spPr>
          <a:xfrm>
            <a:off x="496800" y="3930480"/>
            <a:ext cx="815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ONTOLOGIES ARE REPRESENTATIVES OF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IN RE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For example in the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Molecules, cell components , organis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independent continuants which have func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dependent continuants which become realized through special sorts of processes we call functioning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Processe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occurrents include: functionings, side-effects, stochastic proces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Century Gothic"/>
              </a:rPr>
              <a:t>Continuants (aka endurants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have continuous existence in tim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preserve their identity through chan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exist in toto whenever they exist at 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Century Gothic"/>
              </a:rPr>
              <a:t>Occurrents (aka processes)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have temporal par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unfold themselves in successive pha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ist only in their pha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ntinuants vs. Occurre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atomy vs. Physi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napshot vs. Vide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ocks vs. Flow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odities vs.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roducts vs. Proces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pendent ent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747880"/>
            <a:ext cx="77724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quire independent continuants as their bear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is no grin without a c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e started the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velop a shared language adequate for the annotation of molecular characteristics across organis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agree on a mutual understanding of the definition and meaning of any word used. and thus to support cross-database queri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database access via these common terms to gene product annotations and associated sequenc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pendent vs. independent continua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dependent continuants (organisms, cells, molecules, environment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pendent continuants (qualities, shapes, roles, propensities, function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.g. the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acid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of this gu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All occurrents are dependent entitie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469960"/>
            <a:ext cx="7772400" cy="36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dependent on those independent continuants which are their participants (agents, patients, media ..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GO’s three ontolog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"/>
          <p:cNvSpPr/>
          <p:nvPr/>
        </p:nvSpPr>
        <p:spPr>
          <a:xfrm>
            <a:off x="412920" y="1447920"/>
            <a:ext cx="2145960" cy="23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ar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1680" y="3962520"/>
            <a:ext cx="2602080" cy="2332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61200" y="1371600"/>
            <a:ext cx="2369880" cy="2486160"/>
          </a:xfrm>
          <a:prstGeom prst="ellipse">
            <a:avLst/>
          </a:prstGeom>
          <a:solidFill>
            <a:srgbClr val="8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log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66680" y="2386080"/>
            <a:ext cx="7848720" cy="2974320"/>
            <a:chOff x="1066680" y="2386080"/>
            <a:chExt cx="7848720" cy="2974320"/>
          </a:xfrm>
        </p:grpSpPr>
        <p:sp>
          <p:nvSpPr>
            <p:cNvPr id="340" name=""/>
            <p:cNvSpPr/>
            <p:nvPr/>
          </p:nvSpPr>
          <p:spPr>
            <a:xfrm>
              <a:off x="3087720" y="2386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pen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4900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depen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066680" y="3428640"/>
              <a:ext cx="3505320" cy="152388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4571640" y="342864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219320" y="1295280"/>
            <a:ext cx="6933960" cy="4190760"/>
            <a:chOff x="1219320" y="1295280"/>
            <a:chExt cx="6933960" cy="4190760"/>
          </a:xfrm>
        </p:grpSpPr>
        <p:sp>
          <p:nvSpPr>
            <p:cNvPr id="345" name=""/>
            <p:cNvSpPr/>
            <p:nvPr/>
          </p:nvSpPr>
          <p:spPr>
            <a:xfrm>
              <a:off x="1219320" y="42670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inua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1447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cur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129528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4572000" y="3428640"/>
              <a:ext cx="3581280" cy="20574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812880" y="2523960"/>
            <a:ext cx="7416720" cy="1810080"/>
            <a:chOff x="812880" y="2523960"/>
            <a:chExt cx="7416720" cy="1810080"/>
          </a:xfrm>
        </p:grpSpPr>
        <p:sp>
          <p:nvSpPr>
            <p:cNvPr id="350" name=""/>
            <p:cNvSpPr/>
            <p:nvPr/>
          </p:nvSpPr>
          <p:spPr>
            <a:xfrm>
              <a:off x="812880" y="2523960"/>
              <a:ext cx="1820880" cy="180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a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6160" y="2523960"/>
              <a:ext cx="1834920" cy="180828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2200" y="2523960"/>
              <a:ext cx="1787400" cy="18100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-lev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logi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808200" y="4692600"/>
            <a:ext cx="7414920" cy="1808280"/>
            <a:chOff x="808200" y="4692600"/>
            <a:chExt cx="7414920" cy="1808280"/>
          </a:xfrm>
        </p:grpSpPr>
        <p:sp>
          <p:nvSpPr>
            <p:cNvPr id="354" name=""/>
            <p:cNvSpPr/>
            <p:nvPr/>
          </p:nvSpPr>
          <p:spPr>
            <a:xfrm>
              <a:off x="808200" y="4692600"/>
              <a:ext cx="182880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83080" y="4692600"/>
              <a:ext cx="198108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 compon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48320" y="4692600"/>
              <a:ext cx="177480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16120" y="357120"/>
            <a:ext cx="7402320" cy="1809720"/>
            <a:chOff x="816120" y="357120"/>
            <a:chExt cx="7402320" cy="1809720"/>
          </a:xfrm>
        </p:grpSpPr>
        <p:sp>
          <p:nvSpPr>
            <p:cNvPr id="358" name=""/>
            <p:cNvSpPr/>
            <p:nvPr/>
          </p:nvSpPr>
          <p:spPr>
            <a:xfrm>
              <a:off x="816120" y="357120"/>
              <a:ext cx="1814400" cy="1808280"/>
            </a:xfrm>
            <a:prstGeom prst="ellipse">
              <a:avLst/>
            </a:prstGeom>
            <a:solidFill>
              <a:srgbClr val="8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a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25920" y="357120"/>
              <a:ext cx="1893960" cy="1808280"/>
            </a:xfrm>
            <a:prstGeom prst="ellipse">
              <a:avLst/>
            </a:prstGeom>
            <a:solidFill>
              <a:srgbClr val="8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50120" y="357120"/>
              <a:ext cx="1768320" cy="1809720"/>
            </a:xfrm>
            <a:prstGeom prst="ellipse">
              <a:avLst/>
            </a:prstGeom>
            <a:solidFill>
              <a:srgbClr val="8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-lev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logi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973080" y="1752480"/>
            <a:ext cx="7216920" cy="398880"/>
            <a:chOff x="973080" y="1752480"/>
            <a:chExt cx="7216920" cy="398880"/>
          </a:xfrm>
        </p:grpSpPr>
        <p:sp>
          <p:nvSpPr>
            <p:cNvPr id="362" name=""/>
            <p:cNvSpPr/>
            <p:nvPr/>
          </p:nvSpPr>
          <p:spPr>
            <a:xfrm>
              <a:off x="6478560" y="1752480"/>
              <a:ext cx="1711440" cy="398880"/>
            </a:xfrm>
            <a:prstGeom prst="rect">
              <a:avLst/>
            </a:prstGeom>
            <a:solidFill>
              <a:srgbClr val="686b5d">
                <a:alpha val="8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tio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973080" y="1752480"/>
              <a:ext cx="4512600" cy="398880"/>
              <a:chOff x="973080" y="1752480"/>
              <a:chExt cx="4512600" cy="398880"/>
            </a:xfrm>
          </p:grpSpPr>
          <p:sp>
            <p:nvSpPr>
              <p:cNvPr id="364" name=""/>
              <p:cNvSpPr/>
              <p:nvPr/>
            </p:nvSpPr>
            <p:spPr>
              <a:xfrm>
                <a:off x="973080" y="1752480"/>
                <a:ext cx="1711440" cy="398880"/>
              </a:xfrm>
              <a:prstGeom prst="rect">
                <a:avLst/>
              </a:prstGeom>
              <a:solidFill>
                <a:srgbClr val="686b5d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nction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74240" y="1752480"/>
                <a:ext cx="1711440" cy="398880"/>
              </a:xfrm>
              <a:prstGeom prst="rect">
                <a:avLst/>
              </a:prstGeom>
              <a:solidFill>
                <a:srgbClr val="686b5d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nction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1722600" y="1980720"/>
            <a:ext cx="5611680" cy="838440"/>
            <a:chOff x="1722600" y="1980720"/>
            <a:chExt cx="5611680" cy="838440"/>
          </a:xfrm>
        </p:grpSpPr>
        <p:sp>
          <p:nvSpPr>
            <p:cNvPr id="367" name=""/>
            <p:cNvSpPr/>
            <p:nvPr/>
          </p:nvSpPr>
          <p:spPr>
            <a:xfrm flipV="1">
              <a:off x="1722600" y="1980720"/>
              <a:ext cx="0" cy="83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4280" y="198072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573440" y="1980720"/>
              <a:ext cx="0" cy="83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7846920" y="2025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umping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850160" y="39625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o pump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39080" y="62485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BO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pper Biomedical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1298520" y="1523880"/>
            <a:ext cx="2557440" cy="10684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: 3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19800" y="1528920"/>
            <a:ext cx="2509920" cy="10634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rent: 4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3033720"/>
            <a:ext cx="198900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87760" y="3033720"/>
            <a:ext cx="163332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1720" y="4352760"/>
            <a:ext cx="156348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75080" y="4363920"/>
            <a:ext cx="156528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24320" y="4356000"/>
            <a:ext cx="149220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t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00520" y="3033720"/>
            <a:ext cx="198936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10560" y="3033720"/>
            <a:ext cx="1776240" cy="12571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de-Effec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cha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74" idx="2"/>
            <a:endCxn id="376" idx="0"/>
          </p:cNvCxnSpPr>
          <p:nvPr/>
        </p:nvCxnSpPr>
        <p:spPr>
          <a:xfrm flipH="1">
            <a:off x="1298160" y="2592360"/>
            <a:ext cx="128016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4" name=""/>
          <p:cNvCxnSpPr>
            <a:stCxn id="374" idx="2"/>
            <a:endCxn id="377" idx="0"/>
          </p:cNvCxnSpPr>
          <p:nvPr/>
        </p:nvCxnSpPr>
        <p:spPr>
          <a:xfrm>
            <a:off x="2577600" y="2592360"/>
            <a:ext cx="92628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"/>
          <p:cNvCxnSpPr>
            <a:stCxn id="375" idx="2"/>
            <a:endCxn id="381" idx="0"/>
          </p:cNvCxnSpPr>
          <p:nvPr/>
        </p:nvCxnSpPr>
        <p:spPr>
          <a:xfrm flipH="1">
            <a:off x="5694120" y="2592360"/>
            <a:ext cx="97992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6" name=""/>
          <p:cNvCxnSpPr>
            <a:stCxn id="375" idx="2"/>
            <a:endCxn id="382" idx="0"/>
          </p:cNvCxnSpPr>
          <p:nvPr/>
        </p:nvCxnSpPr>
        <p:spPr>
          <a:xfrm>
            <a:off x="6673320" y="2592360"/>
            <a:ext cx="112644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7" name=""/>
          <p:cNvCxnSpPr>
            <a:stCxn id="377" idx="2"/>
            <a:endCxn id="378" idx="0"/>
          </p:cNvCxnSpPr>
          <p:nvPr/>
        </p:nvCxnSpPr>
        <p:spPr>
          <a:xfrm flipH="1">
            <a:off x="1582200" y="3850920"/>
            <a:ext cx="1921680" cy="501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8" name=""/>
          <p:cNvCxnSpPr>
            <a:stCxn id="377" idx="2"/>
            <a:endCxn id="379" idx="0"/>
          </p:cNvCxnSpPr>
          <p:nvPr/>
        </p:nvCxnSpPr>
        <p:spPr>
          <a:xfrm flipH="1">
            <a:off x="3357000" y="3851280"/>
            <a:ext cx="146520" cy="51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9" name=""/>
          <p:cNvCxnSpPr>
            <a:stCxn id="377" idx="2"/>
            <a:endCxn id="380" idx="0"/>
          </p:cNvCxnSpPr>
          <p:nvPr/>
        </p:nvCxnSpPr>
        <p:spPr>
          <a:xfrm>
            <a:off x="3503160" y="3851280"/>
            <a:ext cx="1567800" cy="50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0" y="5486400"/>
            <a:ext cx="9448920" cy="0"/>
          </a:xfrm>
          <a:prstGeom prst="line">
            <a:avLst/>
          </a:prstGeom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7200" y="5791320"/>
            <a:ext cx="8137440" cy="215280"/>
            <a:chOff x="457200" y="5791320"/>
            <a:chExt cx="8137440" cy="215280"/>
          </a:xfrm>
        </p:grpSpPr>
        <p:sp>
          <p:nvSpPr>
            <p:cNvPr id="392" name=""/>
            <p:cNvSpPr/>
            <p:nvPr/>
          </p:nvSpPr>
          <p:spPr>
            <a:xfrm>
              <a:off x="45720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736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8272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95480" y="5797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2408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9720" y="580032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39880" y="5800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65240" y="580356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78000" y="58068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54120" y="58165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5428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964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92400" y="58226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100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65440" y="581004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65600" y="58100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9096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0372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3232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832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4812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73480" y="58226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86240" y="582588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58352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62520" y="58352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8788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0064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2924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1560" y="583848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2136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47080" y="58417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9480" y="584496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808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4080" y="584820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04240" y="5848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29600" y="5851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42360" y="5854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143000" y="59436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nces (in space and ti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create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echnical asp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644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parate the Database from the Ontology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extensi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gener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reasona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interopera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y ontologies are worth i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nimize database maintenance co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cation between research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tter query facil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ility to draw inferenc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tect correl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cilitate computational interpretation of tex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Before: domain knowledge is embedded in the db </a:t>
            </a: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schema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352600" y="1981080"/>
            <a:ext cx="4438800" cy="4114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309560" y="213372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G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5200" y="385920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59600" y="286848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Ex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62680" y="4925880"/>
            <a:ext cx="124740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Prot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Embedding domain knowledge in the db schema is expensive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logical description and the physical database description of the biology are co-mingl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fore new biological knowledge will force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chema changes: e.g. new tab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Query changes: that explicitly refer to tab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ddleware changes: to retrieve and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UI changes: to displ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0" y="277920"/>
            <a:ext cx="91440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After: domain knowledge is embedded in the </a:t>
            </a: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ontolog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130720" cy="4114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895760" y="3260880"/>
            <a:ext cx="124740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fe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rcRect l="12006" t="0" r="19199" b="0"/>
          <a:stretch/>
        </p:blipFill>
        <p:spPr>
          <a:xfrm>
            <a:off x="4564080" y="2352600"/>
            <a:ext cx="4579920" cy="4505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56160" y="2438280"/>
            <a:ext cx="792360" cy="43200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1160" y="3449520"/>
            <a:ext cx="1225440" cy="36036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94600" y="4513320"/>
            <a:ext cx="792000" cy="28728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47" idx="3"/>
            <a:endCxn id="449" idx="3"/>
          </p:cNvCxnSpPr>
          <p:nvPr/>
        </p:nvCxnSpPr>
        <p:spPr>
          <a:xfrm flipV="1">
            <a:off x="3047760" y="2824920"/>
            <a:ext cx="2524680" cy="786600"/>
          </a:xfrm>
          <a:prstGeom prst="curvedConnector2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7" idx="3"/>
            <a:endCxn id="450" idx="3"/>
          </p:cNvCxnSpPr>
          <p:nvPr/>
        </p:nvCxnSpPr>
        <p:spPr>
          <a:xfrm>
            <a:off x="3048120" y="3611160"/>
            <a:ext cx="2993040" cy="165960"/>
          </a:xfrm>
          <a:prstGeom prst="curvedConnector5">
            <a:avLst>
              <a:gd name="adj1" fmla="val 46998"/>
              <a:gd name="adj2" fmla="val 129130"/>
              <a:gd name="adj3" fmla="val 46998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7" idx="3"/>
            <a:endCxn id="451" idx="3"/>
          </p:cNvCxnSpPr>
          <p:nvPr/>
        </p:nvCxnSpPr>
        <p:spPr>
          <a:xfrm>
            <a:off x="3047760" y="3611160"/>
            <a:ext cx="3362760" cy="1166040"/>
          </a:xfrm>
          <a:prstGeom prst="curvedConnector5">
            <a:avLst>
              <a:gd name="adj1" fmla="val 48244"/>
              <a:gd name="adj2" fmla="val 60809"/>
              <a:gd name="adj3" fmla="val 48244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y driven db schema is less expensive to maintain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logical description and the physical database description of the biology are developed independentl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refore new biological knowledge will only require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tology changes: e.g. new ter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UI changes: displa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schema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query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middleware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105520" y="509760"/>
            <a:ext cx="3657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Reality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ultimately this is what the ontology must refl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114800" y="647640"/>
            <a:ext cx="4390920" cy="5562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cxnSp>
        <p:nvCxnSpPr>
          <p:cNvPr id="461" name=""/>
          <p:cNvCxnSpPr>
            <a:stCxn id="460" idx="0"/>
            <a:endCxn id="459" idx="0"/>
          </p:cNvCxnSpPr>
          <p:nvPr/>
        </p:nvCxnSpPr>
        <p:spPr>
          <a:xfrm flipH="1" rot="16200000">
            <a:off x="4114800" y="-1549080"/>
            <a:ext cx="138600" cy="4253760"/>
          </a:xfrm>
          <a:prstGeom prst="curvedConnector5">
            <a:avLst>
              <a:gd name="adj1" fmla="val -165364"/>
              <a:gd name="adj2" fmla="val 49995"/>
              <a:gd name="adj3" fmla="val -165364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62" name=""/>
          <p:cNvSpPr/>
          <p:nvPr/>
        </p:nvSpPr>
        <p:spPr>
          <a:xfrm>
            <a:off x="5486400" y="6858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Build an ontology that reflects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12960" y="3833640"/>
            <a:ext cx="2286000" cy="2514600"/>
          </a:xfrm>
          <a:prstGeom prst="flowChartMagneticDisk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IDs ser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 proxie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sta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038480" y="509760"/>
            <a:ext cx="4724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bservations and experi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403848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tient 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quence acc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tic strain 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"/>
          <p:cNvCxnSpPr>
            <a:stCxn id="464" idx="1"/>
            <a:endCxn id="463" idx="2"/>
          </p:cNvCxnSpPr>
          <p:nvPr/>
        </p:nvCxnSpPr>
        <p:spPr>
          <a:xfrm flipH="1" flipV="1" rot="10800000">
            <a:off x="637200" y="1916640"/>
            <a:ext cx="275400" cy="3174120"/>
          </a:xfrm>
          <a:prstGeom prst="curvedConnector5">
            <a:avLst>
              <a:gd name="adj1" fmla="val -160602"/>
              <a:gd name="adj2" fmla="val 50000"/>
              <a:gd name="adj3" fmla="val -160602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68" name=""/>
          <p:cNvSpPr/>
          <p:nvPr/>
        </p:nvSpPr>
        <p:spPr>
          <a:xfrm>
            <a:off x="38088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ep 2: Data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12960" y="3833640"/>
            <a:ext cx="2286000" cy="2514600"/>
          </a:xfrm>
          <a:prstGeom prst="flowChartMagneticDisk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IDs ser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 proxie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sta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114800" y="647640"/>
            <a:ext cx="4390920" cy="55627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cxnSp>
        <p:nvCxnSpPr>
          <p:cNvPr id="472" name=""/>
          <p:cNvCxnSpPr>
            <a:stCxn id="471" idx="1"/>
            <a:endCxn id="469" idx="2"/>
          </p:cNvCxnSpPr>
          <p:nvPr/>
        </p:nvCxnSpPr>
        <p:spPr>
          <a:xfrm flipH="1" flipV="1" rot="10800000">
            <a:off x="637200" y="1916640"/>
            <a:ext cx="275400" cy="3174120"/>
          </a:xfrm>
          <a:prstGeom prst="curvedConnector5">
            <a:avLst>
              <a:gd name="adj1" fmla="val -176832"/>
              <a:gd name="adj2" fmla="val 50000"/>
              <a:gd name="adj3" fmla="val -176832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3" name=""/>
          <p:cNvCxnSpPr>
            <a:stCxn id="471" idx="0"/>
            <a:endCxn id="470" idx="0"/>
          </p:cNvCxnSpPr>
          <p:nvPr/>
        </p:nvCxnSpPr>
        <p:spPr>
          <a:xfrm flipH="1" rot="16200000">
            <a:off x="4114800" y="-1549080"/>
            <a:ext cx="138600" cy="4253760"/>
          </a:xfrm>
          <a:prstGeom prst="curvedConnector5">
            <a:avLst>
              <a:gd name="adj1" fmla="val -165364"/>
              <a:gd name="adj2" fmla="val 49995"/>
              <a:gd name="adj3" fmla="val -165364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4" name=""/>
          <p:cNvCxnSpPr>
            <a:stCxn id="469" idx="4"/>
            <a:endCxn id="470" idx="1"/>
          </p:cNvCxnSpPr>
          <p:nvPr/>
        </p:nvCxnSpPr>
        <p:spPr>
          <a:xfrm flipV="1">
            <a:off x="3198960" y="3428280"/>
            <a:ext cx="916560" cy="166284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75" name=""/>
          <p:cNvSpPr/>
          <p:nvPr/>
        </p:nvSpPr>
        <p:spPr>
          <a:xfrm>
            <a:off x="5486400" y="6858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Build an ontology that reflects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ep 2: Data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8480" y="362916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Classify data using th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 is a contract between researche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common language that allows us to share knowled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searchers have a stake in it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very individual will benefit by being able to </a:t>
            </a:r>
            <a:r>
              <a:rPr b="1" lang="en-US" sz="2400" spc="-1" strike="noStrike">
                <a:solidFill>
                  <a:srgbClr val="80ff00"/>
                </a:solidFill>
                <a:latin typeface="Century Gothic"/>
              </a:rPr>
              <a:t>accuratel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interpret someone else’s dat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more pre-scrubb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more time spent translat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typ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insta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instances with leaf nod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ide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ways of getting to know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ways of talking about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data about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7240" y="2379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 astronomy ontology should not includ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'Buzz Aldrin'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term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rms should be in the singul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abbreviations even when it is clear in context what they mean (‘breast’ for ‘breast tumor’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nk of each term ‘A ’ in an ontology is shorthand for a term of the form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ype A ’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0" y="171360"/>
            <a:ext cx="91440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erms used in a definition should be simpler (more intelligible) than the term to be defined; otherwise the definition provides no assist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itions should be intelligible to both machines and hum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human understand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umans need clarity and modular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machine process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chines can cope with the full formal representati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nfusing non-useful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wimm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wimming is healthy and has 8 lett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olan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name of Pol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en defining terms us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 Aristotelia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efinition of ‘A’ takes the form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n </a:t>
            </a:r>
            <a:r>
              <a:rPr b="0" lang="en-US" sz="2800" spc="-1" strike="noStrike">
                <a:solidFill>
                  <a:srgbClr val="80ff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=def. is a </a:t>
            </a:r>
            <a:r>
              <a:rPr b="0" lang="en-US" sz="2800" spc="-1" strike="noStrike">
                <a:solidFill>
                  <a:srgbClr val="80ff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which .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’s parent in the hierarch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human being =def. an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animal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whi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is ration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helicase =def. an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enzyme whi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atalyzes the hydrolysis of ATP to unwind the DNA heli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se of Aristotelia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kes defining terms easi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ach definition encapsulates in modular form the entire parentage of the defined ter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entire information content of the FMA’s term hierarchy and definitions can be translated very cleanly into a computer represen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accepted by 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ummary: How to build your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Keep It Simpl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west possible barrier to entr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chnology independe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arity of definitions and sco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ith new data, we change our mind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 ontology must adapt to reflect current understanding of rea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chanisms to support chan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build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sociology and organizational asp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440960" y="6269040"/>
            <a:ext cx="476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Adopted from “Open Source Menu for Succes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lements for Success: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ommunity with a common vis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pool of talented and motivated developers/scienti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mix of academic and commerci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rganized, light weight approach to product develop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leadership struc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well-defined scope, (our “business”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Gene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unity annotation produc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treme Programming” techniques to distributed ontology gener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ision contro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ightly conflict resolu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sers are integral to the tea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apid iter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4" name=""/>
          <p:cNvCxnSpPr>
            <a:stCxn id="505" idx="2"/>
            <a:endCxn id="506" idx="0"/>
          </p:cNvCxnSpPr>
          <p:nvPr/>
        </p:nvCxnSpPr>
        <p:spPr>
          <a:xfrm flipV="1" rot="10800000">
            <a:off x="7187400" y="4633560"/>
            <a:ext cx="1080" cy="6166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976320" y="200880"/>
            <a:ext cx="63792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66000" y="200880"/>
            <a:ext cx="89100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11880" y="5253840"/>
            <a:ext cx="17524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46440" y="644760"/>
            <a:ext cx="2130480" cy="183276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cover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5000" y="1741680"/>
            <a:ext cx="182592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98720" y="2884680"/>
            <a:ext cx="182556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22400" y="4332600"/>
            <a:ext cx="197820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2860560"/>
            <a:ext cx="2948040" cy="73620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11880" y="4261680"/>
            <a:ext cx="17524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91640" y="4025160"/>
            <a:ext cx="10036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v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92920" y="6195240"/>
            <a:ext cx="239076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e &amp; Lea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6" name=""/>
          <p:cNvCxnSpPr>
            <a:stCxn id="507" idx="3"/>
            <a:endCxn id="508" idx="1"/>
          </p:cNvCxnSpPr>
          <p:nvPr/>
        </p:nvCxnSpPr>
        <p:spPr>
          <a:xfrm>
            <a:off x="1620360" y="385560"/>
            <a:ext cx="1739160" cy="1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08" idx="2"/>
            <a:endCxn id="509" idx="0"/>
          </p:cNvCxnSpPr>
          <p:nvPr/>
        </p:nvCxnSpPr>
        <p:spPr>
          <a:xfrm flipV="1" rot="10800000">
            <a:off x="3810960" y="572760"/>
            <a:ext cx="1080" cy="388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8" name=""/>
          <p:cNvCxnSpPr/>
          <p:nvPr/>
        </p:nvCxnSpPr>
        <p:spPr>
          <a:xfrm flipV="1" rot="10800000">
            <a:off x="1677240" y="1522800"/>
            <a:ext cx="1069200" cy="49788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19" name=""/>
          <p:cNvCxnSpPr>
            <a:stCxn id="510" idx="3"/>
            <a:endCxn id="513" idx="0"/>
          </p:cNvCxnSpPr>
          <p:nvPr/>
        </p:nvCxnSpPr>
        <p:spPr>
          <a:xfrm>
            <a:off x="2590560" y="2384280"/>
            <a:ext cx="4599720" cy="518400"/>
          </a:xfrm>
          <a:prstGeom prst="bentConnector2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0" name=""/>
          <p:cNvCxnSpPr>
            <a:stCxn id="509" idx="3"/>
            <a:endCxn id="513" idx="0"/>
          </p:cNvCxnSpPr>
          <p:nvPr/>
        </p:nvCxnSpPr>
        <p:spPr>
          <a:xfrm>
            <a:off x="4876560" y="1560600"/>
            <a:ext cx="2313720" cy="1342080"/>
          </a:xfrm>
          <a:prstGeom prst="bentConnector2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1" name=""/>
          <p:cNvCxnSpPr/>
          <p:nvPr/>
        </p:nvCxnSpPr>
        <p:spPr>
          <a:xfrm flipH="1" rot="16200000">
            <a:off x="2498400" y="1851480"/>
            <a:ext cx="491400" cy="2134440"/>
          </a:xfrm>
          <a:prstGeom prst="bentConnector3">
            <a:avLst>
              <a:gd name="adj1" fmla="val 49780"/>
            </a:avLst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2" name=""/>
          <p:cNvCxnSpPr>
            <a:stCxn id="511" idx="2"/>
            <a:endCxn id="512" idx="0"/>
          </p:cNvCxnSpPr>
          <p:nvPr/>
        </p:nvCxnSpPr>
        <p:spPr>
          <a:xfrm flipV="1" rot="10800000">
            <a:off x="3810960" y="3852360"/>
            <a:ext cx="1080" cy="79632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3" name=""/>
          <p:cNvCxnSpPr>
            <a:stCxn id="511" idx="1"/>
            <a:endCxn id="514" idx="3"/>
          </p:cNvCxnSpPr>
          <p:nvPr/>
        </p:nvCxnSpPr>
        <p:spPr>
          <a:xfrm flipV="1" rot="10800000">
            <a:off x="1802520" y="3526200"/>
            <a:ext cx="1096200" cy="68364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4" name=""/>
          <p:cNvCxnSpPr>
            <a:stCxn id="514" idx="1"/>
            <a:endCxn id="509" idx="0"/>
          </p:cNvCxnSpPr>
          <p:nvPr/>
        </p:nvCxnSpPr>
        <p:spPr>
          <a:xfrm flipH="1" rot="10800000">
            <a:off x="783720" y="959760"/>
            <a:ext cx="3028320" cy="3250440"/>
          </a:xfrm>
          <a:prstGeom prst="bentConnector4">
            <a:avLst>
              <a:gd name="adj1" fmla="val -7549"/>
              <a:gd name="adj2" fmla="val 10702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2" idx="1"/>
            <a:endCxn id="514" idx="3"/>
          </p:cNvCxnSpPr>
          <p:nvPr/>
        </p:nvCxnSpPr>
        <p:spPr>
          <a:xfrm rot="10800000">
            <a:off x="1802520" y="4209480"/>
            <a:ext cx="1019880" cy="76572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6" name=""/>
          <p:cNvCxnSpPr>
            <a:stCxn id="512" idx="3"/>
            <a:endCxn id="506" idx="0"/>
          </p:cNvCxnSpPr>
          <p:nvPr/>
        </p:nvCxnSpPr>
        <p:spPr>
          <a:xfrm>
            <a:off x="4800600" y="4974840"/>
            <a:ext cx="2388240" cy="27540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7" name=""/>
          <p:cNvCxnSpPr>
            <a:stCxn id="513" idx="3"/>
            <a:endCxn id="508" idx="3"/>
          </p:cNvCxnSpPr>
          <p:nvPr/>
        </p:nvCxnSpPr>
        <p:spPr>
          <a:xfrm flipH="1" flipV="1">
            <a:off x="4263480" y="385200"/>
            <a:ext cx="4399560" cy="2843640"/>
          </a:xfrm>
          <a:prstGeom prst="bentConnector3">
            <a:avLst>
              <a:gd name="adj1" fmla="val -5188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8" name=""/>
          <p:cNvCxnSpPr>
            <a:stCxn id="513" idx="2"/>
            <a:endCxn id="505" idx="0"/>
          </p:cNvCxnSpPr>
          <p:nvPr/>
        </p:nvCxnSpPr>
        <p:spPr>
          <a:xfrm rot="5400000">
            <a:off x="6836400" y="3904920"/>
            <a:ext cx="704160" cy="2520"/>
          </a:xfrm>
          <a:prstGeom prst="bentConnector3">
            <a:avLst>
              <a:gd name="adj1" fmla="val 49872"/>
            </a:avLst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9" name=""/>
          <p:cNvCxnSpPr>
            <a:stCxn id="506" idx="2"/>
            <a:endCxn id="515" idx="0"/>
          </p:cNvCxnSpPr>
          <p:nvPr/>
        </p:nvCxnSpPr>
        <p:spPr>
          <a:xfrm flipV="1" rot="10800000">
            <a:off x="7187400" y="5625720"/>
            <a:ext cx="1080" cy="565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687600" y="53244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ff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7960" y="571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2" name=""/>
          <p:cNvCxnSpPr>
            <a:stCxn id="515" idx="3"/>
            <a:endCxn id="506" idx="3"/>
          </p:cNvCxnSpPr>
          <p:nvPr/>
        </p:nvCxnSpPr>
        <p:spPr>
          <a:xfrm flipH="1" flipV="1">
            <a:off x="8063640" y="5438160"/>
            <a:ext cx="320040" cy="942120"/>
          </a:xfrm>
          <a:prstGeom prst="bentConnector3">
            <a:avLst>
              <a:gd name="adj1" fmla="val -7162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74736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your domain covere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Due diligence &amp; background research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3603240"/>
            <a:ext cx="7772400" cy="343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ep 1: Learn what is out the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most comprehensive list is on the OBO site.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http://obo.sourceforge.ne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sess ontologies critically and realistically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0" y="30636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-93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t is privately hel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Ontologies must be shared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400" y="1919160"/>
            <a:ext cx="8991720" cy="581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ties form scientific theori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seek to explain all of the existing eviden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can be used for predic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communities are all directed to the same biological reality, but have their own perspec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computable representation must be shar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development is inherently collabora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pen ontologies become connected to instance data &amp; this feeds back on ontology develop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it active?</a:t>
            </a: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Pragmatic assessment of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re access to help, e.g.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elp-me@weird.ontology.ne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es a warm body answer help mail within a ‘reasonable’ time—say 2 working days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644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it applie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Toy ontologies are not usefu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very ontology improves when it is applied to actual instances of da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mproves even more when these data are used to answer research ques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will be fewer problems in the ontology and more commitment to fixing remaining problems when important research data is involved that scientists depend up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 very wary of ontologies that have never been appli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ork with that commun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o improve (if you found one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o develop (if you did not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entury Gothic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"/>
          <p:cNvSpPr/>
          <p:nvPr/>
        </p:nvSpPr>
        <p:spPr>
          <a:xfrm>
            <a:off x="6400800" y="3051720"/>
            <a:ext cx="175248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81840" y="4680360"/>
            <a:ext cx="2390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laborate and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3" idx="2"/>
            <a:endCxn id="544" idx="0"/>
          </p:cNvCxnSpPr>
          <p:nvPr/>
        </p:nvCxnSpPr>
        <p:spPr>
          <a:xfrm flipV="1" rot="10800000">
            <a:off x="7276320" y="3636720"/>
            <a:ext cx="1080" cy="10404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44" idx="2"/>
            <a:endCxn id="543" idx="1"/>
          </p:cNvCxnSpPr>
          <p:nvPr/>
        </p:nvCxnSpPr>
        <p:spPr>
          <a:xfrm flipV="1" rot="16200000">
            <a:off x="5633640" y="4109400"/>
            <a:ext cx="2410560" cy="876960"/>
          </a:xfrm>
          <a:prstGeom prst="bentConnector4">
            <a:avLst>
              <a:gd name="adj1" fmla="val -25556"/>
              <a:gd name="adj2" fmla="val 263203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munity vs. Committee 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ny people have (understandably) reservations about collaborative development, because it can easily be confused with design-by-committee project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mbers of a committee represent themselv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mbers of a community represent their communit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sign for purpose - not in abstrac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o will use i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no one is interested, then go back to b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at will they use it for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e the doma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o will maintain i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e pragmatic and mode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art with a concrete proposal —not a blank slate.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do not commit your ego to i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stribute to a small group you respect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a shared commit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broad domain knowledg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o will engage in vigorous debate without engaging their egos (or, at least not too much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o will do concrete work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1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pha0: the first proposal - broad in breadth but shallow in depth. By one person with broad domain knowledg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stribute to a small group (&lt;6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et together for two days and engage in vigorous discussion. Be open and frank. Argue, but do not be dogmati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iterate over a period of months. Do as much as possible face-to-face, rather than by phone/email. Meet for 2 days every 3 months or s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2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istribute Alpha1 to your group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ll now test this Alpha1 in real lif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y classifying representations of instances with these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not worry that (at this stage) you if do not have tool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3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convene as a group for two day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hare experiences from implementatio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n your Alpha1 be implemented in a useful way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conceptual problems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structural problems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34880" y="5029200"/>
            <a:ext cx="8272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icroarray data from Figure 2K of Eisen et al. (1998).  Cluster analysis and display of genome-wide expression patterns,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Proc. Natl. Acad. Sci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95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25): 14863-1486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4600" y="1295280"/>
            <a:ext cx="1155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880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notation of Yeast Microarray Clusters Using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2209680"/>
          <a:ext cx="8153280" cy="4587840"/>
        </p:xfrm>
        <a:graphic>
          <a:graphicData uri="http://schemas.openxmlformats.org/drawingml/2006/table">
            <a:tbl>
              <a:tblPr/>
              <a:tblGrid>
                <a:gridCol w="761760"/>
                <a:gridCol w="2133720"/>
                <a:gridCol w="2743200"/>
                <a:gridCol w="2514600"/>
              </a:tblGrid>
              <a:tr h="1828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GE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PROCE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FUN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ELLULAR COMPON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8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NDI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NADH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QCR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X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 oxid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RIP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Rieske Fe-S 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X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 oxid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DH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alate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matr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QCR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951280" y="2495520"/>
          <a:ext cx="307800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1280" y="2495520"/>
                    <a:ext cx="3078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951280" y="2828880"/>
          <a:ext cx="3243240" cy="14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51280" y="2828880"/>
                    <a:ext cx="32432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6880" y="2552760"/>
            <a:ext cx="139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6880" y="4029120"/>
            <a:ext cx="139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590920"/>
            <a:ext cx="457200" cy="1981080"/>
          </a:xfrm>
          <a:prstGeom prst="ellipse">
            <a:avLst/>
          </a:prstGeom>
          <a:noFill/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4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ablish a mechanism for chang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CVS or Subvers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mit the number of editors with write permission (ideally to one person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que stable identifi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istory tracking of chang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a Beta1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riously implement Beta1 in real lif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ild the ontology in dept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5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about 6 months reconvene and evaluat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 ontology suited to its purpose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it, in practice, usable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we happy about its broad structure and content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6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 publi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ontology to commun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the products of the annotation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vite broad community input and establish a mechanism for this (e.g. SourceForge)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7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roselytiz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ublish in  a high profile journ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gage new user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mphasize openn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rite a gra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8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er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mprovements come in two for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t is impossible to get it right the 1st (or 2nd, or 3rd, …) tim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at we know about reality is continually grow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969800" y="2689560"/>
            <a:ext cx="3502800" cy="3317400"/>
            <a:chOff x="4969800" y="2689560"/>
            <a:chExt cx="3502800" cy="3317400"/>
          </a:xfrm>
        </p:grpSpPr>
        <p:sp>
          <p:nvSpPr>
            <p:cNvPr id="570" name=""/>
            <p:cNvSpPr/>
            <p:nvPr/>
          </p:nvSpPr>
          <p:spPr>
            <a:xfrm>
              <a:off x="6400800" y="2689560"/>
              <a:ext cx="17524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Improv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81840" y="4318200"/>
              <a:ext cx="239076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Collaborate and Lear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2" name=""/>
            <p:cNvCxnSpPr>
              <a:stCxn id="570" idx="2"/>
              <a:endCxn id="571" idx="0"/>
            </p:cNvCxnSpPr>
            <p:nvPr/>
          </p:nvCxnSpPr>
          <p:spPr>
            <a:xfrm flipV="1" rot="10800000">
              <a:off x="7276320" y="3274560"/>
              <a:ext cx="1080" cy="1040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73" name=""/>
            <p:cNvCxnSpPr>
              <a:stCxn id="571" idx="2"/>
              <a:endCxn id="570" idx="1"/>
            </p:cNvCxnSpPr>
            <p:nvPr/>
          </p:nvCxnSpPr>
          <p:spPr>
            <a:xfrm flipV="1" rot="16200000">
              <a:off x="5633640" y="3747240"/>
              <a:ext cx="2410560" cy="876960"/>
            </a:xfrm>
            <a:prstGeom prst="bentConnector4">
              <a:avLst>
                <a:gd name="adj1" fmla="val -25556"/>
                <a:gd name="adj2" fmla="val 263203"/>
              </a:avLst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9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Bradley Hand ITC TT-Bold"/>
              </a:rPr>
              <a:t>Bon appetit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5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se the power of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bination and collabora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 far as possible don’t reinv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ies are like telephones: they are valuable only to the degree that they are used and networked with other ontolog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choose working teleph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st telephones were broken when the technology was first being develop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National Center for Biomedical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UCSF – Oregon – Cambrid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7140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981080" y="3048120"/>
            <a:ext cx="2667240" cy="685800"/>
          </a:xfrm>
          <a:prstGeom prst="ellipse">
            <a:avLst/>
          </a:prstGeom>
          <a:noFill/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-2449800" y="3021480"/>
            <a:ext cx="14048280" cy="821880"/>
          </a:xfrm>
          <a:prstGeom prst="ellipse">
            <a:avLst/>
          </a:prstGeom>
          <a:noFill/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Century Gothic"/>
              </a:rPr>
              <a:t>Bioinformatics and Computational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National Centers for Biomedical Computing—2005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ational Center for Integrative Biomedical Informatics (Michigan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ational Center for Multi-Scale Study of Cellular Networks (Columbia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01:42Z</dcterms:created>
  <dc:creator>Suzanna Lewis</dc:creator>
  <dc:description/>
  <dc:language>en-US</dc:language>
  <cp:lastModifiedBy>Suzanna Lewis</cp:lastModifiedBy>
  <dcterms:modified xsi:type="dcterms:W3CDTF">2006-04-20T18:55:34Z</dcterms:modified>
  <cp:revision>167</cp:revision>
  <dc:subject/>
  <dc:title>The Joy of Ontology</dc:title>
</cp:coreProperties>
</file>